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9CEA26-6207-4851-9A14-B6C63C47D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AFB40-258A-4F6A-8F18-54DE57894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C9AAC-D5AE-49CA-8A07-09AA20B3C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5"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65853-54C9-4393-BE87-5C63E8C7F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E2BC1C-7BB0-4CFF-8FFC-8D78B2D895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4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71F01-085B-4B3E-AA67-3E2CA1238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4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BBBC39-D50B-466A-A0F7-EAD6A51E1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7693B-391B-4342-A503-40E3A3A09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CA85D-D2BA-4FD3-A87B-E17D7FCD4A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11CD7-9078-4135-A040-F5DB1B3DA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5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6659A-D0FE-4C1D-827F-D0DD3FC6E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C66A5-9B80-4937-BF31-5A31CBCE5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19CA2-D133-4230-B159-14A64403E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63F8C-F9AA-41D4-B32E-2C6E4E3AFC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6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49810-3800-4879-870E-C9CA7EF2A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2B478F-B016-446D-84FA-1BA48F432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7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2E305-7EB8-46C1-8332-2F717E965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A12BB8-A10F-4763-B407-B3DFE71337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8"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FA4E15-E1F2-4E3B-8EA1-04A4EEF0CD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90"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DC1D2-510E-4D02-AAF0-352224F3AE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9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880BA-C9F6-41BF-938D-75C6445EA5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C5F3EA-E3E8-4ACE-A43C-70619B6F5C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DEE0F-DDE1-4300-AA75-4CFB17C009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122C93-96F4-4C4D-BCEF-4DA62CF1FE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9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701F86-213E-48E6-AD80-5AA755A636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00719C-D412-43E3-9433-B8231DCC76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AACC9F-61DD-4534-910D-4AFE428FBF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9"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653C2-3880-4856-A015-852E08E7C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1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F90474-39AB-4B62-8339-E02D676F10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17"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9"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0"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F68D018-C56A-409B-9190-09A21E052E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1ACC73-8692-4761-B964-B02918F80D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29"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FE5A3-7D35-4053-AC82-B1D141DB0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7C49BA-8F57-4A82-AEC5-EA068824B9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5E8D-8FFF-4AF2-93A3-8C99D267E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3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2AC5DF-2B1E-4058-92CE-2B726B719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2FFC72-32AF-40ED-9496-A4F16D22AF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DCF6A6-E654-4702-B0F6-310D209518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3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CBE0F1-957F-48D7-856C-F2C455B5E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2"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769FF8-E9AE-425A-AF19-5B6A79EF0F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4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89EC0B-F030-4FFF-A88C-3E5B5D31D4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50"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24B77-A3E9-47E9-AA2C-1B550201F1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5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7B2988-A1CC-434A-B7D5-655D5404FD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58"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9"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0"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1"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2"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3"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8A7950-EE5D-46E2-BB75-B65E0D9495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E547C2-D66B-433D-BAD9-90B14F3864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A7B9E-DD32-4C26-9AE4-F9D22C55A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7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32CB27-5B01-49B4-BE5D-9D1076B3D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7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D2A5FE-9FEF-44B4-B3E5-2A6BA6458D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7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B4ACCD-D3AC-4273-8D24-244990139C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9ECF7-FF3E-4DC3-B149-B7CA57615B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48D483-7885-47FC-B249-E8212D83F3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E4F910-E13F-4483-8B41-61C6C5152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8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45682A-3A45-4D40-AD79-E25FA1E416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8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EE34D-2C20-4E70-8428-F4A0826B80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967AD7-B8F3-44F2-9C47-C081FF0081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D14457-F462-4908-A77D-1DF0EA09C5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428C-A21E-4B28-BB34-1A221E53A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74FD84-16BB-43DD-B330-BE4EADFFAE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67A4C8-949D-4580-A4D5-6750AADDD9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1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CB05A-E2C3-41CF-AF75-0CEFC15C2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0FEEF9-7827-4E54-9D84-32FF156EFE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1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67EC17-B382-44C4-8C55-49BF40DF71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796CF6-836F-4C45-9726-8A8C3D2D4F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E9CB2C-98C3-4CDD-BDAD-0BEFD71C5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2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EF7EA8-F52D-4869-8CB8-4E8AF39339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2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EB301-3772-48D1-A41A-0CBE43C1A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43F11A-0D17-4469-B29F-A34E290F1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2CBBE-EADD-4A95-BE72-55EEBA228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C8A891-4F38-4E79-AAD6-FBBE147EB4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5B1696-5AB2-402F-82BB-C099309611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4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C2520A-4252-4806-9E12-A792A9FF0C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547E47C-77B1-44E5-8555-5E6D3187A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6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ACCDC3-6306-4DF5-8F50-0BCF9641DA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6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F8286C-8BDB-4B27-A52D-BE8FD9F240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0D518B-85C0-42CD-B31C-4807D830D5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D1761C-06A6-49C5-9FFC-23687C4137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7DD59-A03E-4507-9C44-8C5780726A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6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7D919F-1030-43FD-815E-87BD9FF541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1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BF979-66BC-4116-A0BB-E24A5A456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EFE05-B5BD-448C-9E25-EC7AE8013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7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DECDFF-1452-4B19-827B-69F705F8A4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8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2AC010-295B-4320-BAF1-2C777B0BAD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8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A00CD9-8EA9-47E3-8180-30934C0E69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8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2246BE-D88B-4F2F-95A9-CD1A38BE63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Verdana"/>
            </a:endParaRPr>
          </a:p>
        </p:txBody>
      </p:sp>
      <p:sp>
        <p:nvSpPr>
          <p:cNvPr id="2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5B28-A14A-4D85-807A-641E88B14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CA78-AF43-4848-AE6A-E1E02BF76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2130120"/>
            <a:ext cx="64771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5124-C66C-4300-93C9-55038CF4F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3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1A740-2842-418F-AB8E-E3AA579657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738D-02BE-4DE2-8063-2FADB7703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E5D5-3B0A-48D0-B9CE-A29B8D2C1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5"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rcRect l="0" t="0" r="0" b="5335"/>
          <a:stretch/>
        </p:blipFill>
        <p:spPr>
          <a:xfrm>
            <a:off x="0" y="50760"/>
            <a:ext cx="1181160" cy="4057560"/>
          </a:xfrm>
          <a:prstGeom prst="rect">
            <a:avLst/>
          </a:prstGeom>
          <a:ln w="0">
            <a:noFill/>
          </a:ln>
        </p:spPr>
      </p:pic>
      <p:pic>
        <p:nvPicPr>
          <p:cNvPr id="208" name="" descr=""/>
          <p:cNvPicPr/>
          <p:nvPr/>
        </p:nvPicPr>
        <p:blipFill>
          <a:blip r:embed="rId3"/>
          <a:srcRect l="0" t="40000" r="0" b="0"/>
          <a:stretch/>
        </p:blipFill>
        <p:spPr>
          <a:xfrm>
            <a:off x="0" y="4222800"/>
            <a:ext cx="1181160" cy="2571840"/>
          </a:xfrm>
          <a:prstGeom prst="rect">
            <a:avLst/>
          </a:prstGeom>
          <a:ln w="0">
            <a:noFill/>
          </a:ln>
        </p:spPr>
      </p:pic>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21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339480" indent="-3394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339480" indent="-339480">
              <a:spcBef>
                <a:spcPts val="7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11" name="PlaceHolder 3"/>
          <p:cNvSpPr>
            <a:spLocks noGrp="1"/>
          </p:cNvSpPr>
          <p:nvPr>
            <p:ph type="dt" idx="16"/>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 name="PlaceHolder 4"/>
          <p:cNvSpPr>
            <a:spLocks noGrp="1"/>
          </p:cNvSpPr>
          <p:nvPr>
            <p:ph type="ftr" idx="17"/>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 name="PlaceHolder 5"/>
          <p:cNvSpPr>
            <a:spLocks noGrp="1"/>
          </p:cNvSpPr>
          <p:nvPr>
            <p:ph type="sldNum" idx="18"/>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2B498-A97B-4D70-B700-050753FB3B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1" name="" descr=""/>
          <p:cNvPicPr/>
          <p:nvPr/>
        </p:nvPicPr>
        <p:blipFill>
          <a:blip r:embed="rId3"/>
          <a:stretch/>
        </p:blipFill>
        <p:spPr>
          <a:xfrm>
            <a:off x="0" y="50760"/>
            <a:ext cx="1181160" cy="4286160"/>
          </a:xfrm>
          <a:prstGeom prst="rect">
            <a:avLst/>
          </a:prstGeom>
          <a:ln w="0">
            <a:noFill/>
          </a:ln>
        </p:spPr>
      </p:pic>
      <p:sp>
        <p:nvSpPr>
          <p:cNvPr id="25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 descr=""/>
          <p:cNvPicPr/>
          <p:nvPr/>
        </p:nvPicPr>
        <p:blipFill>
          <a:blip r:embed="rId5"/>
          <a:srcRect l="0" t="40000" r="0" b="0"/>
          <a:stretch/>
        </p:blipFill>
        <p:spPr>
          <a:xfrm>
            <a:off x="0" y="4222800"/>
            <a:ext cx="1181160" cy="2571840"/>
          </a:xfrm>
          <a:prstGeom prst="rect">
            <a:avLst/>
          </a:prstGeom>
          <a:ln w="0">
            <a:noFill/>
          </a:ln>
        </p:spPr>
      </p:pic>
      <p:sp>
        <p:nvSpPr>
          <p:cNvPr id="25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Verdana"/>
              </a:rPr>
              <a:t>Click to edit the title text format</a:t>
            </a:r>
            <a:endParaRPr b="0" lang="en-US" sz="4400" spc="-1" strike="noStrike">
              <a:solidFill>
                <a:srgbClr val="221304"/>
              </a:solidFill>
              <a:latin typeface="Verdana"/>
            </a:endParaRPr>
          </a:p>
        </p:txBody>
      </p:sp>
      <p:sp>
        <p:nvSpPr>
          <p:cNvPr id="255" name="PlaceHolder 2"/>
          <p:cNvSpPr>
            <a:spLocks noGrp="1"/>
          </p:cNvSpPr>
          <p:nvPr>
            <p:ph type="dt" idx="19"/>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6" name="PlaceHolder 3"/>
          <p:cNvSpPr>
            <a:spLocks noGrp="1"/>
          </p:cNvSpPr>
          <p:nvPr>
            <p:ph type="ftr" idx="20"/>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7" name="PlaceHolder 4"/>
          <p:cNvSpPr>
            <a:spLocks noGrp="1"/>
          </p:cNvSpPr>
          <p:nvPr>
            <p:ph type="sldNum" idx="21"/>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BF82-01BA-40EE-9EF3-2FE300A2E2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447560" y="1066680"/>
            <a:ext cx="647676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pperplate Gothic Bold"/>
              </a:rPr>
              <a:t>The Healthy World Of Diet</a:t>
            </a:r>
            <a:endParaRPr b="0" lang="en-US" sz="4400" spc="-1" strike="noStrike">
              <a:solidFill>
                <a:srgbClr val="000000"/>
              </a:solidFill>
              <a:latin typeface="Arial"/>
            </a:endParaRPr>
          </a:p>
        </p:txBody>
      </p:sp>
      <p:sp>
        <p:nvSpPr>
          <p:cNvPr id="296"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Portfolio Presentation</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vin Ray B. Toliner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l Ed A. Mul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19320" y="837720"/>
            <a:ext cx="678168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stellar"/>
              </a:rPr>
              <a:t>Unit Summary</a:t>
            </a:r>
            <a:endParaRPr b="0" lang="en-US" sz="4400" spc="-1" strike="noStrike">
              <a:solidFill>
                <a:srgbClr val="000000"/>
              </a:solidFill>
              <a:latin typeface="Arial"/>
            </a:endParaRPr>
          </a:p>
        </p:txBody>
      </p:sp>
      <p:sp>
        <p:nvSpPr>
          <p:cNvPr id="298" name="PlaceHolder 2"/>
          <p:cNvSpPr>
            <a:spLocks noGrp="1"/>
          </p:cNvSpPr>
          <p:nvPr>
            <p:ph type="subTitle"/>
          </p:nvPr>
        </p:nvSpPr>
        <p:spPr>
          <a:xfrm>
            <a:off x="1066680" y="2361960"/>
            <a:ext cx="7010640" cy="380988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ea typeface="Times New Roman"/>
              </a:rPr>
              <a:t>The pupils would understand the proper way of balance diet. Knowing how important the leafy vegetables and savory fruits into our way of living. Lastly, learning the balance diet which is composed of the 3 G’s. Namely, Go, Grow and Glow.</a:t>
            </a:r>
            <a:r>
              <a:rPr b="0" lang="en-US" sz="2800" spc="-1" strike="noStrike">
                <a:solidFill>
                  <a:srgbClr val="000000"/>
                </a:solidFill>
                <a:latin typeface="Arial Black"/>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76212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stellar"/>
              </a:rPr>
              <a:t>CFQ’s</a:t>
            </a:r>
            <a:endParaRPr b="0" lang="en-US" sz="4400" spc="-1" strike="noStrike">
              <a:solidFill>
                <a:srgbClr val="000000"/>
              </a:solidFill>
              <a:latin typeface="Arial"/>
            </a:endParaRPr>
          </a:p>
        </p:txBody>
      </p:sp>
      <p:sp>
        <p:nvSpPr>
          <p:cNvPr id="300" name="PlaceHolder 2"/>
          <p:cNvSpPr>
            <a:spLocks noGrp="1"/>
          </p:cNvSpPr>
          <p:nvPr>
            <p:ph type="subTitle"/>
          </p:nvPr>
        </p:nvSpPr>
        <p:spPr>
          <a:xfrm>
            <a:off x="990720" y="1904760"/>
            <a:ext cx="7162560" cy="3733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sential Question:</a:t>
            </a:r>
            <a:endParaRPr b="0" lang="en-US" sz="3200" spc="-1" strike="noStrike">
              <a:solidFill>
                <a:srgbClr val="000000"/>
              </a:solidFill>
              <a:latin typeface="Arial"/>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How do vegetables benefit our body?</a:t>
            </a:r>
            <a:endParaRPr b="0" lang="en-US" sz="2000" spc="-1" strike="noStrike">
              <a:solidFill>
                <a:srgbClr val="000000"/>
              </a:solidFill>
              <a:latin typeface="Arial"/>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kind of foods do you like to eat?</a:t>
            </a: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t Question:</a:t>
            </a:r>
            <a:endParaRPr b="0" lang="en-US" sz="3200" spc="-1" strike="noStrike">
              <a:solidFill>
                <a:srgbClr val="000000"/>
              </a:solidFill>
              <a:latin typeface="Arial"/>
            </a:endParaRPr>
          </a:p>
          <a:p>
            <a:pPr>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it been true that vegetables can keep our body strong and healthy?</a:t>
            </a:r>
            <a:r>
              <a:rPr b="0" lang="en-US" sz="3200" spc="-1" strike="noStrike">
                <a:solidFill>
                  <a:srgbClr val="000000"/>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 Question:</a:t>
            </a:r>
            <a:endParaRPr b="0" lang="en-US" sz="3200" spc="-1" strike="noStrike">
              <a:solidFill>
                <a:srgbClr val="000000"/>
              </a:solidFill>
              <a:latin typeface="Arial"/>
            </a:endParaRPr>
          </a:p>
          <a:p>
            <a:pPr>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Go, Grow and Glow Foods? </a:t>
            </a:r>
            <a:endParaRPr b="0" lang="en-US" sz="2000" spc="-1" strike="noStrike">
              <a:solidFill>
                <a:srgbClr val="000000"/>
              </a:solidFill>
              <a:latin typeface="Arial"/>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837720"/>
            <a:ext cx="772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pperplate Gothic Bold"/>
              </a:rPr>
              <a:t>Vision for Unit</a:t>
            </a:r>
            <a:endParaRPr b="0" lang="en-US" sz="4400" spc="-1" strike="noStrike">
              <a:solidFill>
                <a:srgbClr val="221304"/>
              </a:solidFill>
              <a:latin typeface="Verdana"/>
            </a:endParaRPr>
          </a:p>
        </p:txBody>
      </p:sp>
      <p:sp>
        <p:nvSpPr>
          <p:cNvPr id="302" name="PlaceHolder 2"/>
          <p:cNvSpPr>
            <a:spLocks noGrp="1"/>
          </p:cNvSpPr>
          <p:nvPr>
            <p:ph type="subTitle"/>
          </p:nvPr>
        </p:nvSpPr>
        <p:spPr>
          <a:xfrm>
            <a:off x="1143000" y="2362320"/>
            <a:ext cx="7391520" cy="3657600"/>
          </a:xfrm>
          <a:prstGeom prst="rect">
            <a:avLst/>
          </a:prstGeom>
          <a:noFill/>
          <a:ln w="0">
            <a:noFill/>
          </a:ln>
        </p:spPr>
        <p:txBody>
          <a:bodyPr lIns="90000" rIns="90000" tIns="46800" bIns="46800" anchor="t">
            <a:noAutofit/>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Georgia"/>
              </a:rPr>
              <a:t>During this unit, I want my students to</a:t>
            </a:r>
            <a:endParaRPr b="0" lang="en-US" sz="3500" spc="-1" strike="noStrike">
              <a:solidFill>
                <a:srgbClr val="000000"/>
              </a:solidFill>
              <a:latin typeface="Verdana"/>
            </a:endParaRPr>
          </a:p>
          <a:p>
            <a:pPr>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y the vegetables and the fruits.</a:t>
            </a:r>
            <a:r>
              <a:rPr b="0" lang="en-US" sz="3600" spc="-1" strike="noStrike">
                <a:solidFill>
                  <a:srgbClr val="000000"/>
                </a:solidFill>
                <a:latin typeface="Verdana"/>
              </a:rPr>
              <a:t> </a:t>
            </a:r>
            <a:endParaRPr b="0" lang="en-US" sz="3600" spc="-1" strike="noStrike">
              <a:solidFill>
                <a:srgbClr val="000000"/>
              </a:solidFill>
              <a:latin typeface="Verdana"/>
            </a:endParaRPr>
          </a:p>
          <a:p>
            <a:pPr>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the essence of Go, Grow and Glow Foods </a:t>
            </a:r>
            <a:endParaRPr b="0" lang="en-US" sz="2800" spc="-1" strike="noStrike">
              <a:solidFill>
                <a:srgbClr val="000000"/>
              </a:solidFill>
              <a:latin typeface="Verdana"/>
            </a:endParaRPr>
          </a:p>
          <a:p>
            <a:pPr>
              <a:lnSpc>
                <a:spcPct val="90000"/>
              </a:lnSpc>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ify to which food group does certain food belongs.</a:t>
            </a:r>
            <a:r>
              <a:rPr b="0" lang="en-US" sz="3600" spc="-1" strike="noStrike">
                <a:solidFill>
                  <a:srgbClr val="000000"/>
                </a:solidFill>
                <a:latin typeface="Verdana"/>
              </a:rPr>
              <a:t> </a:t>
            </a:r>
            <a:endParaRPr b="0" lang="en-US" sz="3600" spc="-1" strike="noStrike">
              <a:solidFill>
                <a:srgbClr val="000000"/>
              </a:solidFill>
              <a:latin typeface="Verdan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144000" cy="6858000"/>
          </a:xfrm>
          <a:prstGeom prst="rect">
            <a:avLst/>
          </a:prstGeom>
          <a:ln w="0">
            <a:noFill/>
          </a:ln>
        </p:spPr>
      </p:pic>
      <p:sp>
        <p:nvSpPr>
          <p:cNvPr id="304" name=""/>
          <p:cNvSpPr/>
          <p:nvPr/>
        </p:nvSpPr>
        <p:spPr>
          <a:xfrm>
            <a:off x="914400" y="228600"/>
            <a:ext cx="72388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Elephant"/>
              </a:rPr>
              <a:t>Project Approaches</a:t>
            </a:r>
            <a:endParaRPr b="0" lang="en-US" sz="4800" spc="-1" strike="noStrike">
              <a:solidFill>
                <a:srgbClr val="000000"/>
              </a:solidFill>
              <a:latin typeface="Arial"/>
            </a:endParaRPr>
          </a:p>
        </p:txBody>
      </p:sp>
      <p:sp>
        <p:nvSpPr>
          <p:cNvPr id="305" name=""/>
          <p:cNvSpPr/>
          <p:nvPr/>
        </p:nvSpPr>
        <p:spPr>
          <a:xfrm>
            <a:off x="685800" y="1828800"/>
            <a:ext cx="7543800" cy="433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y students work on this project, they</a:t>
            </a:r>
            <a:endParaRPr b="0" lang="en-US" sz="2400" spc="-1" strike="noStrike">
              <a:solidFill>
                <a:srgbClr val="000000"/>
              </a:solidFill>
              <a:latin typeface="Arial"/>
            </a:endParaRPr>
          </a:p>
          <a:p>
            <a:pPr marL="343080" indent="-343080">
              <a:lnSpc>
                <a:spcPct val="100000"/>
              </a:lnSpc>
              <a:spcBef>
                <a:spcPts val="15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hance their fine motor skills ( Holding a pencil )</a:t>
            </a:r>
            <a:endParaRPr b="0" lang="en-US" sz="2400" spc="-1" strike="noStrike">
              <a:solidFill>
                <a:srgbClr val="000000"/>
              </a:solidFill>
              <a:latin typeface="Arial"/>
            </a:endParaRPr>
          </a:p>
          <a:p>
            <a:pPr marL="343080" indent="-343080">
              <a:lnSpc>
                <a:spcPct val="100000"/>
              </a:lnSpc>
              <a:spcBef>
                <a:spcPts val="15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heir Cognitive ( Identifying what kind of foods that belong to a certain category )</a:t>
            </a:r>
            <a:endParaRPr b="0" lang="en-US" sz="2400" spc="-1" strike="noStrike">
              <a:solidFill>
                <a:srgbClr val="000000"/>
              </a:solidFill>
              <a:latin typeface="Arial"/>
            </a:endParaRPr>
          </a:p>
          <a:p>
            <a:pPr marL="343080" indent="-343080">
              <a:lnSpc>
                <a:spcPct val="100000"/>
              </a:lnSpc>
              <a:spcBef>
                <a:spcPts val="15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necting ideas </a:t>
            </a:r>
            <a:endParaRPr b="0" lang="en-US" sz="2400" spc="-1" strike="noStrike">
              <a:solidFill>
                <a:srgbClr val="000000"/>
              </a:solidFill>
              <a:latin typeface="Arial"/>
            </a:endParaRPr>
          </a:p>
          <a:p>
            <a:pPr marL="343080" indent="-343080">
              <a:lnSpc>
                <a:spcPct val="100000"/>
              </a:lnSpc>
              <a:spcBef>
                <a:spcPts val="1500"/>
              </a:spcBef>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laining their work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5. Give suggestions or feedbacks about their     classmates work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
        <p:nvSpPr>
          <p:cNvPr id="307" name=""/>
          <p:cNvSpPr/>
          <p:nvPr/>
        </p:nvSpPr>
        <p:spPr>
          <a:xfrm>
            <a:off x="1981080" y="304920"/>
            <a:ext cx="510552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uging Student Needs Assessment</a:t>
            </a:r>
            <a:endParaRPr b="0" lang="en-US" sz="3200" spc="-1" strike="noStrike">
              <a:solidFill>
                <a:srgbClr val="000000"/>
              </a:solidFill>
              <a:latin typeface="Arial"/>
            </a:endParaRPr>
          </a:p>
        </p:txBody>
      </p:sp>
      <p:sp>
        <p:nvSpPr>
          <p:cNvPr id="308" name=""/>
          <p:cNvSpPr/>
          <p:nvPr/>
        </p:nvSpPr>
        <p:spPr>
          <a:xfrm>
            <a:off x="228600" y="1752480"/>
            <a:ext cx="8686800" cy="3924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essment Method</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ining student work reveals the nature and extent of student understanding, clarifies learning expectations for students, and provides opportunities to assess the quality of a previously taught task or plan and the implications for instructional practice.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ic organizers provide a visual representation of student’s current conceptual understanding and thinking processes and illuminate preconceptions.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storming - Students generate terms and ideas related to a topic and form creative connections between prior knowledge and new possibilit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31T20:46:19Z</dcterms:created>
  <dc:creator>nave1386</dc:creator>
  <dc:description/>
  <dc:language>en-US</dc:language>
  <cp:lastModifiedBy>nave1386</cp:lastModifiedBy>
  <dcterms:modified xsi:type="dcterms:W3CDTF">2010-09-02T21:04:14Z</dcterms:modified>
  <cp:revision>3</cp:revision>
  <dc:subject/>
  <dc:title>The Healthy World Of Diet</dc:title>
</cp:coreProperties>
</file>